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wmf" ContentType="image/x-wmf"/>
  <Override PartName="/ppt/media/image9.png" ContentType="image/png"/>
  <Override PartName="/ppt/media/image16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D1E-D1F9-4C2D-9085-529C1F0E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6680" indent="-166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create a space where cell can digest macromolecules saf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pturing a few lysosomes has little impact on a cell (pH of cytosol affects functionality of the lysosomal enzymes), but massive leakage from lysosomes can destro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volve digestive enzymes which function at pH so different from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 won’t function well if leak into cytosol = most times don’t want to digest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H = acid environment cause oxidation (removing electrons) &amp; promotes hydr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mech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nsors in the cell that monitor growth. They trigger self-destruct when they sense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spots on leaves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infected plant cell auto-destructs and even cells around it to wall off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mech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nsors in the cell that monitor growth. They trigger self-destruct when they sense processes gone aw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spots on leaves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infected plant cell auto-destructs and even kills cells around it to wall off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993F-DB4B-4D72-AF08-D0C466BC8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809B-1F44-46C6-BAFB-11AD06578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EF31-5CAE-4737-B96C-439D6B3D2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E1DE-AFE4-4A5D-8E2E-95AF7B809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1A4F-2DEE-4B22-9052-A7D71748D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C825-14D8-4219-8F28-48A914B76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AED3-80B4-4F45-889D-86578851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34E-74F9-48ED-96F2-075DCF7D6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33B8-D429-4A69-85DB-D9E751877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196C-A25E-447A-A58A-608C9E8CC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1555-EE94-417F-8327-4A5A0A31B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9142-EF2B-4A4B-A284-1647C9F33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80C4-0E25-4853-87BE-CA67459EB7F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6491" t="10405" r="2599" b="6661"/>
          <a:stretch/>
        </p:blipFill>
        <p:spPr>
          <a:xfrm>
            <a:off x="4746600" y="3208320"/>
            <a:ext cx="4321080" cy="3649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3505320"/>
            <a:ext cx="1143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ttle “stomach” of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4320" indent="-2271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gests macro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lean up crew” of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4320" indent="-2271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eans up broken down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rganel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sicles of digestiv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5040" y="5891760"/>
            <a:ext cx="1765800" cy="76428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nly in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nimal cell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5891760"/>
            <a:ext cx="2954520" cy="76428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ynthesized by rER, transferred to Golgi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72320" y="185256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29440" y="358920"/>
            <a:ext cx="1766880" cy="1457280"/>
          </a:xfrm>
          <a:prstGeom prst="wedgeEllipseCallout">
            <a:avLst>
              <a:gd name="adj1" fmla="val 44787"/>
              <a:gd name="adj2" fmla="val 6546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ld organell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 to di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3176" b="11140"/>
          <a:stretch/>
        </p:blipFill>
        <p:spPr>
          <a:xfrm>
            <a:off x="5791320" y="4067280"/>
            <a:ext cx="3276360" cy="2714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roxi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digestive enzyme sa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both animals &amp; pla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peroxide (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ust breakdown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599" t="6865" r="35786" b="6456"/>
          <a:stretch/>
        </p:blipFill>
        <p:spPr>
          <a:xfrm>
            <a:off x="744480" y="1289160"/>
            <a:ext cx="7856640" cy="460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2480" y="4425120"/>
            <a:ext cx="4222800" cy="1677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te blood cells attack &amp; destroy invaders = digest them in lysoso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2080" y="6053760"/>
            <a:ext cx="4509000" cy="7671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74 Nobel prize: Christian de Duv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ysosomes discovery in 1960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77804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6679800" y="2912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0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4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diges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137" b="3113"/>
          <a:stretch/>
        </p:blipFill>
        <p:spPr>
          <a:xfrm>
            <a:off x="3568680" y="1897200"/>
            <a:ext cx="5531040" cy="4883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ysosomes fuse with food vacuol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ymer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ed in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nomer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ass to cytoso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becom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trients of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0" y="4564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" y="5959440"/>
            <a:ext cx="4804200" cy="901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yso–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breaking things apar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om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 =  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al enzy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ysosomal enzymes work best at pH 5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rganelle creates custom 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teins in lysosomal membrane pump H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ons from the cytosol into lysosom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zymes are very sensitive to p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zymes are proteins — pH affects structu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 evolve digestive enzymes which function at pH different from cytosol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gestive enzymes won’t function well if some leak into cytosol = don’t want to digest yourself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03880" y="4129200"/>
            <a:ext cx="2851200" cy="26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ings go bad…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81952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5360" y="1371600"/>
            <a:ext cx="8364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Diseases of lysosomes are often fatal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ive enzyme not working in lys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icks up biomolecules, but can’t digest o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ysosomes fill up with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undigest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ater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ow larger &amp; larger until disrupts cell &amp; organ func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osomal storage diseas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more than 40 known dise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Tay-Sachs diseas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 up undigested fa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brain cel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3600" b="12962"/>
          <a:stretch/>
        </p:blipFill>
        <p:spPr>
          <a:xfrm>
            <a:off x="4557600" y="2163600"/>
            <a:ext cx="4586400" cy="2014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sometimes cells need to die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2840" y="1359000"/>
            <a:ext cx="83055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ysosomes can be used to kill cells when they are supposed to be destroy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 cells have to die for proper development in an organis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poptosis</a:t>
            </a:r>
            <a:r>
              <a:rPr b="1" lang="en-US" sz="2400" spc="-1" strike="noStrike" u="sng">
                <a:solidFill>
                  <a:srgbClr val="ff0322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uto-destruct” process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ysosomes break open &amp; kill cel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tadpole tail gets re-absorbe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n it turns into a fro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loss of webbing between your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ngers during fetal development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67507" t="30000" r="13500" b="42000"/>
          <a:stretch/>
        </p:blipFill>
        <p:spPr>
          <a:xfrm>
            <a:off x="6950160" y="4456080"/>
            <a:ext cx="201924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tal develop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191120" cy="404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3205080"/>
            <a:ext cx="4724640" cy="3579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44600" y="3222720"/>
            <a:ext cx="1456200" cy="39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5 week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560" y="1407600"/>
            <a:ext cx="145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 week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13240" y="366120"/>
            <a:ext cx="4730760" cy="2632680"/>
            <a:chOff x="4413240" y="366120"/>
            <a:chExt cx="4730760" cy="26326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rcRect l="0" t="0" r="0" b="6751"/>
            <a:stretch/>
          </p:blipFill>
          <p:spPr>
            <a:xfrm>
              <a:off x="6096240" y="682560"/>
              <a:ext cx="304776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9601" t="0" r="0" b="0"/>
            <a:stretch/>
          </p:blipFill>
          <p:spPr>
            <a:xfrm>
              <a:off x="4413240" y="1569960"/>
              <a:ext cx="1727280" cy="1428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35" name=""/>
            <p:cNvSpPr/>
            <p:nvPr/>
          </p:nvSpPr>
          <p:spPr>
            <a:xfrm>
              <a:off x="6204960" y="366120"/>
              <a:ext cx="20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116a"/>
                  </a:solidFill>
                  <a:latin typeface="Arial"/>
                </a:rPr>
                <a:t>syndactyly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3360" y="4751280"/>
            <a:ext cx="4205160" cy="2043360"/>
            <a:chOff x="63360" y="4751280"/>
            <a:chExt cx="4205160" cy="2043360"/>
          </a:xfrm>
        </p:grpSpPr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2567880" y="5094000"/>
              <a:ext cx="204336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rcRect l="0" t="0" r="0" b="26146"/>
            <a:stretch/>
          </p:blipFill>
          <p:spPr>
            <a:xfrm>
              <a:off x="63360" y="5253120"/>
              <a:ext cx="2773440" cy="15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popt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8572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grammed destruction of cells in multi-cellular organis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grammed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trol of cell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ell grows uncontrollably this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elf-destruct mechan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s triggered to remove damaged cel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cer must over-ride this to enable tumor grow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03800" y="4140360"/>
            <a:ext cx="3040200" cy="271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cuoles &amp; vesic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ttle “transfer ships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ood vacuo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use with lysosome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ontractile vacuo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freshwater protists, pump excess H</a:t>
            </a:r>
            <a:r>
              <a:rPr b="1" lang="en-US" sz="22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 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ut of cell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ntral vacuol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many mature plant cell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57031" r="49500" b="0"/>
          <a:stretch/>
        </p:blipFill>
        <p:spPr>
          <a:xfrm>
            <a:off x="5859360" y="1219320"/>
            <a:ext cx="3284640" cy="17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49415"/>
          <a:stretch/>
        </p:blipFill>
        <p:spPr>
          <a:xfrm>
            <a:off x="76320" y="5318280"/>
            <a:ext cx="3582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an</cp:lastModifiedBy>
  <cp:lastPrinted>2008-11-25T21:18:19Z</cp:lastPrinted>
  <dcterms:modified xsi:type="dcterms:W3CDTF">2009-11-17T00:25:00Z</dcterms:modified>
  <cp:revision>93</cp:revision>
  <dc:subject/>
  <dc:title>Cells functions </dc:title>
</cp:coreProperties>
</file>